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6B35-BF9D-48BA-9936-D4A1050DD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xt describes the characteristics of “typical” business guests and leisure gu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The text provides an example of each characteristic applied to lodging industr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A2F-D967-40D7-AD93-F018CCD2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BFB-12CB-4756-9B54-8933A59F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B9A-0E65-4463-9593-1F557682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42D-A2ED-4650-A955-8C421273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339-03E0-4AED-82DD-AAB066FC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0C1F-988A-40D8-B39A-6694F783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2165-7FAF-45DB-BEEC-13A056A6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456C-E53C-406C-AA6A-1E43DD14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F12-0AD2-4E86-9742-47CBE39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C030-1F25-478D-9FC0-C42C21D3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25DF-FE37-4180-8210-A76B1AE4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3F1-05FD-43A3-9BBC-5D3F3FD0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20F6-4064-4791-88CF-7A33378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51DB-CF99-48BA-A654-C0CD950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E36F-0DD2-4568-B959-B18BAF3D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73D6-BBBB-426D-B378-EF673B71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67E9-CCD5-4853-BA15-6922E95E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989-2FDD-4E26-9AA3-AE03741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2A9-DB3C-46F8-A8A1-EFB5F73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028-956C-4A91-82BC-4202AD8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643-3639-4BF6-ABE9-3923E4B8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549-9B96-41CC-BAEB-A0B777C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363-8B56-4B6B-B99F-EC2EF4CA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30F-05FF-42CA-80F0-123AA59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A4F8-0458-48BF-8934-79A19F57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BB73-B35C-471A-8D3B-CEE9371A4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yatt.com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RONT OFFICE OPERATIONS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7000" y="48528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G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j0330861[1]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2994120"/>
            <a:ext cx="310356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booking cyc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ime between when the individual reservation is made and when it is due to arr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as the group base can be reserved far in advance, the individual booking cycle can be more short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lk-in reserv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made by guests arriving unannounced at a hotel and cannot be measured as part of the booking cycle as they are hard to pred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v Transient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 and transient makeup of a hotel depends on many factors including location type, service level, target market, size and other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ample relationship at a fictitious downtown hotel is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955960" y="3683160"/>
            <a:ext cx="3200400" cy="2193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955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413160" y="4689360"/>
            <a:ext cx="457200" cy="11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70360" y="4322880"/>
            <a:ext cx="457200" cy="15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327560" y="4505400"/>
            <a:ext cx="4572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784760" y="5146560"/>
            <a:ext cx="457200" cy="730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41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699160" y="5419800"/>
            <a:ext cx="457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411280" y="50878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411280" y="46306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11280" y="41734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411280" y="37162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411280" y="55450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8"/>
          <p:cNvSpPr/>
          <p:nvPr/>
        </p:nvSpPr>
        <p:spPr>
          <a:xfrm rot="16200000">
            <a:off x="1224720" y="46274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umber of Hotel Sleeping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2544840" y="293976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2971800" y="58525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    T     W    T     F     S   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4859280" y="407664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419640" y="5373720"/>
            <a:ext cx="12236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740720" y="595008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3-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hotel that wants to minimise the opportunity cost associated with transient sleeping room sales will incorporate as ma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rvation aven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ervation avenue is defined as the means by which a guest is able to make a reservation at a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er the access guests have to specific hotels, the more likely they are to 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nsient Reservation Avenue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st common reservation avenues 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DS system (Global Distribu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S (Central Reserva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travel agent or travel management company cont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guest contr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D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lobal Distribution System (GDS) is a network of travel and hospitality entities that communicate via an integrated computer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uter systems were developed by airlines to link their availability to travel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fee agreements hotels and car rental companies now also link their individual products to the GDS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ntral reservation systems provides the customer with an avenue to locate a hotel of choice in a certain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n easy to find toll free number such as 1800-hotels-1 or Web site such as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hyatt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RS can generate demand for a hotel through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vel Agent or Travel Management Compan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transient reservation process, travel agents and travel management companies act as intermediaries, making money in one of two 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They may charge a fl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They are pai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 Guest Cont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s themselves can make a reservation via phone, fax or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offer a direct booking capability on thei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348000" y="211608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3348000" y="515772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755640" y="2836800"/>
            <a:ext cx="2376360" cy="58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vel Mgmt Co or Travel Ag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5940360" y="3629160"/>
            <a:ext cx="23767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55640" y="427680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5724360" y="2349360"/>
            <a:ext cx="152244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37"/>
          <p:cNvSpPr/>
          <p:nvPr/>
        </p:nvSpPr>
        <p:spPr>
          <a:xfrm flipH="1">
            <a:off x="7236000" y="2351160"/>
            <a:ext cx="10800" cy="12938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7236000" y="4005360"/>
            <a:ext cx="0" cy="1368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24360" y="5373720"/>
            <a:ext cx="15098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442764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507528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42"/>
          <p:cNvSpPr/>
          <p:nvPr/>
        </p:nvSpPr>
        <p:spPr>
          <a:xfrm>
            <a:off x="3132000" y="2924280"/>
            <a:ext cx="57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3704760" y="2924280"/>
            <a:ext cx="3240" cy="22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1753920" y="2276640"/>
            <a:ext cx="159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1754280" y="2276640"/>
            <a:ext cx="9360" cy="57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1762200" y="3429000"/>
            <a:ext cx="1440" cy="863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1752480" y="4653000"/>
            <a:ext cx="11160" cy="720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1754280" y="5372280"/>
            <a:ext cx="159372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9"/>
          <p:cNvSpPr/>
          <p:nvPr/>
        </p:nvSpPr>
        <p:spPr>
          <a:xfrm rot="16200000">
            <a:off x="3084120" y="3490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Phone or Fa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0"/>
          <p:cNvSpPr/>
          <p:nvPr/>
        </p:nvSpPr>
        <p:spPr>
          <a:xfrm rot="16200000">
            <a:off x="3731760" y="32022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7667640" y="58910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ortion or segment of the actual or potential business mix at any given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this business pool into segments with similar characteristic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corporate, association and SMER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business and pl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97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99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04920" y="257184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8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102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2400480" y="251460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nsient business travelers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4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105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107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304920" y="340992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5.3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110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2400480" y="335268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attending a conference/group meeting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113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115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Text Box 21"/>
              <p:cNvSpPr/>
              <p:nvPr/>
            </p:nvSpPr>
            <p:spPr>
              <a:xfrm>
                <a:off x="304920" y="42480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4.6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118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23"/>
              <p:cNvSpPr/>
              <p:nvPr/>
            </p:nvSpPr>
            <p:spPr>
              <a:xfrm>
                <a:off x="2400480" y="419112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on vacation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" name="Group 42"/>
          <p:cNvGrpSpPr/>
          <p:nvPr/>
        </p:nvGrpSpPr>
        <p:grpSpPr>
          <a:xfrm>
            <a:off x="271440" y="4896000"/>
            <a:ext cx="8339040" cy="819000"/>
            <a:chOff x="271440" y="4896000"/>
            <a:chExt cx="8339040" cy="819000"/>
          </a:xfrm>
        </p:grpSpPr>
        <p:sp>
          <p:nvSpPr>
            <p:cNvPr id="121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2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123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26"/>
              <p:cNvSpPr/>
              <p:nvPr/>
            </p:nvSpPr>
            <p:spPr>
              <a:xfrm>
                <a:off x="304920" y="51624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1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5" name="Group 38"/>
            <p:cNvGrpSpPr/>
            <p:nvPr/>
          </p:nvGrpSpPr>
          <p:grpSpPr>
            <a:xfrm>
              <a:off x="2324160" y="4896000"/>
              <a:ext cx="5905440" cy="819000"/>
              <a:chOff x="2324160" y="4896000"/>
              <a:chExt cx="5905440" cy="819000"/>
            </a:xfrm>
          </p:grpSpPr>
          <p:sp>
            <p:nvSpPr>
              <p:cNvPr id="126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28"/>
              <p:cNvSpPr/>
              <p:nvPr/>
            </p:nvSpPr>
            <p:spPr>
              <a:xfrm>
                <a:off x="2400480" y="4896000"/>
                <a:ext cx="563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veling for other reasons (for example, personal, family, or special event)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por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 consists of for-profit companies and frequently pays higher rates than other segments to ensure quality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oci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segment consists of groups of individuals or companies that share common purposes or goals, and is more cost-conscious than the corporate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MERF segment consists of groups that have characteristics that set them apart from the previous two categories, and has five primary com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0000" y="3457440"/>
          <a:ext cx="7272360" cy="2347920"/>
        </p:xfrm>
        <a:graphic>
          <a:graphicData uri="http://schemas.openxmlformats.org/drawingml/2006/table">
            <a:tbl>
              <a:tblPr/>
              <a:tblGrid>
                <a:gridCol w="3000600"/>
                <a:gridCol w="42717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dings, Proms, Fund Raiser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ions, Award Ceremo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ing Education, Classes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g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vals, Enlightenment Gath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e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ternities, Soro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is one who stays at a hotel because of its location in relation to another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usiness guest makes his/her hotel choice based on many factors, but one of the most common is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offer various incentives for guest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eas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stays at  hotel because of its proximity to an attraction and/or because of a signature attraction at the hotel itsel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gnature attraction is an event, activity or facility identified with a specific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oom Dem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figure illustrates how both group and transient market segments come together to make up guest room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4" descr="j0310022[1]"/>
          <p:cNvPicPr/>
          <p:nvPr/>
        </p:nvPicPr>
        <p:blipFill>
          <a:blip r:embed="rId1"/>
          <a:stretch/>
        </p:blipFill>
        <p:spPr>
          <a:xfrm>
            <a:off x="3203640" y="2997360"/>
            <a:ext cx="2720880" cy="30668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067280" y="3689280"/>
            <a:ext cx="1008000" cy="1110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826920" y="3141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826920" y="4149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826920" y="5302080"/>
            <a:ext cx="136872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732720" y="4797360"/>
            <a:ext cx="136836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6732720" y="3430440"/>
            <a:ext cx="136836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2124000" y="3645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1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052720" y="4581000"/>
            <a:ext cx="5745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444720" y="39337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6444720" y="450972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34800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5365440" y="4438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653080" y="42940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950160" y="4941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eas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6877080" y="357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2700360" y="4292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1116000" y="5459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ER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900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971640" y="3357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667640" y="5950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129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134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5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138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142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3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146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7"/>
          <p:cNvGrpSpPr/>
          <p:nvPr/>
        </p:nvGrpSpPr>
        <p:grpSpPr>
          <a:xfrm>
            <a:off x="457200" y="4876920"/>
            <a:ext cx="8153280" cy="1199880"/>
            <a:chOff x="457200" y="4876920"/>
            <a:chExt cx="8153280" cy="1199880"/>
          </a:xfrm>
        </p:grpSpPr>
        <p:sp>
          <p:nvSpPr>
            <p:cNvPr id="150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1"/>
            <p:cNvSpPr/>
            <p:nvPr/>
          </p:nvSpPr>
          <p:spPr>
            <a:xfrm>
              <a:off x="1009800" y="5060880"/>
              <a:ext cx="74484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ous amenities (e.g., business centers) increase costs for hotel owners yet sometimes appeal to only a small segment of the hotel’s market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36"/>
          <p:cNvGrpSpPr/>
          <p:nvPr/>
        </p:nvGrpSpPr>
        <p:grpSpPr>
          <a:xfrm>
            <a:off x="457200" y="3657600"/>
            <a:ext cx="8153280" cy="914400"/>
            <a:chOff x="457200" y="3657600"/>
            <a:chExt cx="8153280" cy="914400"/>
          </a:xfrm>
        </p:grpSpPr>
        <p:sp>
          <p:nvSpPr>
            <p:cNvPr id="154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5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7"/>
            <p:cNvSpPr/>
            <p:nvPr/>
          </p:nvSpPr>
          <p:spPr>
            <a:xfrm>
              <a:off x="1009800" y="389880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sults in a more competitive selling environment for hoteliers (e.g., online room booking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5"/>
          <p:cNvGrpSpPr/>
          <p:nvPr/>
        </p:nvGrpSpPr>
        <p:grpSpPr>
          <a:xfrm>
            <a:off x="457200" y="2587680"/>
            <a:ext cx="8153280" cy="914400"/>
            <a:chOff x="457200" y="2587680"/>
            <a:chExt cx="8153280" cy="914400"/>
          </a:xfrm>
        </p:grpSpPr>
        <p:sp>
          <p:nvSpPr>
            <p:cNvPr id="158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3"/>
            <p:cNvSpPr/>
            <p:nvPr/>
          </p:nvSpPr>
          <p:spPr>
            <a:xfrm>
              <a:off x="1009800" y="282924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e more  the number of brands increase, the harder consumers find it to differentiate between them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34"/>
          <p:cNvGrpSpPr/>
          <p:nvPr/>
        </p:nvGrpSpPr>
        <p:grpSpPr>
          <a:xfrm>
            <a:off x="457200" y="1428840"/>
            <a:ext cx="8153280" cy="895320"/>
            <a:chOff x="457200" y="1428840"/>
            <a:chExt cx="8153280" cy="895320"/>
          </a:xfrm>
        </p:grpSpPr>
        <p:sp>
          <p:nvSpPr>
            <p:cNvPr id="162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3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1009800" y="1670040"/>
              <a:ext cx="7448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fforts to focus on a highly defined, smaller group of travelers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57200" y="1200240"/>
            <a:ext cx="4876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 segmentation is incr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2362320"/>
            <a:ext cx="2590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s overl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457200" y="3505320"/>
            <a:ext cx="53341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sophistication of consu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457200" y="4648320"/>
            <a:ext cx="426708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number of amen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eservation Aven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catering contribution plays an important role in food and beverage revenue and also impacts the sleeping room portion of the hotel success triangle (see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is the measurement of room sales verses available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ms that are sold fall into two categories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bination of these two groups makes up the hotel’s occup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ro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iginate from reservations that are made to bring more than one guest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rooms involve a series of bookings that correspond to specif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consider bookings of 10 or more rooms per night a group bo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e group room sales effort is to seek group bookings and bring them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sales is counted upon to fill a certain number of hotel rooms per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base is the measurement of how many group rooms are “on the books” on a give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groups can be booked far in advance, they are sought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important to note that group rooms are often offered at lower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rooms that originate from individual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non-group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iffer from group rooms as there is no way to predict when these guests will ar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 the level of individual reservations on any given night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ing at historical data helps in determining the most likely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0T14:00:08Z</dcterms:modified>
  <cp:revision>97</cp:revision>
  <dc:subject/>
  <dc:title>FRONT OFFICE OPERATIONS MANAGEMENT</dc:title>
</cp:coreProperties>
</file>